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0CA9-E6F8-4CD0-9DCE-1DBDBC67E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type = tr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() – activating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e stat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) – (9) tracking object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n line 8 compiled into a middleware function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s: Communication radius = 6 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 radius: 1-2 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nquish = max theoretical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immediately relinquishes leadership when entity moves out of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trackable speed is VERY fast, 10-30 times faster than max speed of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sensor range increases max trackable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r heartbeat increases maximum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sized events are more easily tr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breaks if CR &lt; 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med nodes broadcast JAM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der nodes receive JAM message and become mapping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 sends BUILD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sends BUILD message, M3 starts coalescing 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) M3’s coalescing timer expires, coalesce group, send BUILD message of new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) M2 receives coalesced group from M3, updates local data and re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7) M1 PROBES for neighbors, bridge nodes receives probe and starts long coalescing timer for G1 and 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8) Bridge B1’s coalescing timer expires, sends a BUILD message to M1 and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ately connected networks converge quickly to a single dominant group.  Minimally connected network did not always converge (121 nodes in jammer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view of minimally connected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des present in minimally connected networks.  Jammed nodes are only those along boundary.  Note increase in reliance on bridging nodes as jammed region exp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moderately connected networks converge quickly.  Minimally connected network takes longer because of reliance on bridging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Failure rate = the probability that a mapping node fails. The more connected the network, the more robust to fail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Increase in number of PROBE messages show that as failure rate increases, the number of partitions increase which prevents adjacent groups from coales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s surrounding entity form groups, one around each entity.  Sensor Network Abstraction Layer associates a context label with each group.  Context label contains aggregate state of entity being tracked. Tracking object within the context label performs context-specific compu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A79-FBA4-4E30-BAF2-81FAEF64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2FB-357D-421D-B990-2A0B61A5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2C6-2F4A-4D29-8A45-45C43262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E23-701E-4BE5-9852-95864C16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9028-A954-4336-BA72-E1111C2D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E71D-A912-476C-A83B-3CF5558D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4E29-A84B-45AD-9F55-9A870DA5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5922-5433-46BB-ADCC-85AEBC0C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06BE-EC9D-4FE1-8F4A-B85CA67D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5D5C-C33A-4A52-BDD2-1D05F173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C1C1-C7DB-4EE4-A14E-63238350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4C0-BA3E-4DA2-87CE-1568C840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5B56-4CC5-45C1-B8D3-0009136F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B901-164E-4A51-A0B9-2FEF7159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44CD-BAD2-41F0-9494-512C2349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6978-EABC-455D-9E4D-2D2D6DDB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40D8-4297-4077-A5DE-8B80F6BB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D98-ACAE-41B7-834B-327D76E8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573-1A74-4205-A192-8804BCA8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8DD-DDC9-4169-AF4A-C7F8CC34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FE4-DFDA-47A8-B98F-CA64FF98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9D5-A16D-47C5-8190-BD03B08F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08F-AE67-4685-9F5A-862DAF43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CA0-121D-4C0C-8C50-1B95A154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2FFC-D3E6-4936-9C5C-28FC8D1A491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F823-D395-455B-A0B0-A0306C0D75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EAF4-4E00-4B15-835D-D63460558FF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376A-4748-4613-8E93-649EC457CE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EnviroTrack and JAM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 Chien-Liang F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A36E-225B-42F5-A369-190B58E6DB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. M. Algorithm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non-member node receives a heartbeat, it sets a ti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ntity is sensed before expiration, the node joins the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ntity is sensed after timer expires, the node creates a new group (and context label) and declares itself le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325-4C26-4F52-A9E7-24B6AF6759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urious Lead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p member algorithm may result in more than one le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context label’s leader contains a weight, initially z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ment weight each time data is received from the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ight is inherited during leadership hand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label with greater weight w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kely for spurious leaders atta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6D94-0941-4833-AF7E-7FA4A49DB6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roximate Aggregate Sta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ader of the group maintains the approximate aggregate data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er sends each membe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mber periodically sends sensor data to leader with a period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etwork dela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cessing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ader performs aggregation ever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valid flag is set i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not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780-EE15-425B-9DB0-1ECE16EFDB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rectory Serv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ccess to a particular type of context lab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hash func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label typ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hysical location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within one hop of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are called directory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 labels periodically send their state and location to directory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68AD-3831-4A8A-B915-A136E793F0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ngu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Track provides a language for declaring context labels and aggregate data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 co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5181840" cy="28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F8D-BF95-4D1D-BF0F-337454C9C6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oretical example scenar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-72 tank moves through a sensor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ors can detect tank 100m a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ors arranged in grid 140m a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max speed, tank moves one hop every 11.2 seconds (45km/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test setu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0:1 model of the above scen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s/hop (50km/h) and 15s/hop (33km/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7348-92EA-4622-9544-5AEBCB6FE8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ed tank trajec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located at integer coordi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ual path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have no notion of proxim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7924680" cy="26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57E-02BB-4DD9-96A0-A7315907BD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dership Handov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229600" cy="39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9D2-E778-4309-A3B2-0DCFD2B028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unication Perform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 handles message l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ssage loss not due to link u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 uses very little bandwid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able to greater tracking difficul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229600" cy="142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E5DE-345A-410F-8B45-C721939BA4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ximum Trackable Spe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238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fected most by heartbeat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st results w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e timer = 2.1 H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to take over lead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it timer = 4.1*H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to create new gro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600-B68C-4E09-96BD-F1802672F9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Trac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entity-tracking middleware for sensor 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n singl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text lab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straction that is dynamically created and logically associated with an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s details of inter-node 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s of group mainte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mer interacts with context label rather than changing set of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D58-9A9A-40B2-84F5-7A42401D10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ximum Trackable Spe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2304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34C-6FC1-4A6B-8D64-16EA63DBF5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unication Radius &amp; Sensing Radius Rat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80264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B6AB-DE58-4F6F-B2E1-0C22CBE6D3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viroTrack is a middleware for tracking ent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eves applications from details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aggr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FB4-E16F-4EF4-A46D-31F92F6E98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tocol that allows applications to view a jammed region as an entity rather than a collection of broken links and congested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s data to be rerouted around a jammed region and other evasive 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3E5-8FC9-4139-8054-5BEE698D4F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eral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des within the jammed area notify nodes outside of the jammed area that they are jamm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der nodes just outside jammed area coordinate to form groups of jammed nod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5562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54100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59436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51814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5943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70120" y="47340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49528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51814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55627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50292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752120" y="4800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133360" y="47242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057400" y="472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752480" y="5283360"/>
            <a:ext cx="1396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905120" y="5730840"/>
            <a:ext cx="410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36760" y="5734080"/>
            <a:ext cx="12384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06760" y="5533920"/>
            <a:ext cx="21276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584440" y="4708080"/>
            <a:ext cx="10476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06760" y="5133960"/>
            <a:ext cx="28872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25760" y="52484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25760" y="5629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867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54770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9280" y="6010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68760" y="486720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02080" y="4638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1648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0160" y="57056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21200" y="53244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49800" y="6010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4714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87880" y="4638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48006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0208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3068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30680" y="5629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184640" y="4711680"/>
            <a:ext cx="18108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72000" y="4714920"/>
            <a:ext cx="4986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48440" y="4749840"/>
            <a:ext cx="2188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48200" y="4867200"/>
            <a:ext cx="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0000" y="6076800"/>
            <a:ext cx="4255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009760" y="5829480"/>
            <a:ext cx="23508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054760" y="5886000"/>
            <a:ext cx="22860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353200" y="5410080"/>
            <a:ext cx="3780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413240" y="5162400"/>
            <a:ext cx="2556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552920" y="5025600"/>
            <a:ext cx="856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778280" y="494316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930560" y="5251320"/>
            <a:ext cx="612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777920" y="561348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695840" y="5232240"/>
            <a:ext cx="20016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479840" y="5076720"/>
            <a:ext cx="20016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5334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52578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53080" y="56386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4876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864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86600" y="6019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5715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6019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4952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152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18440" y="4809960"/>
            <a:ext cx="984240" cy="114012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294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8660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40560" y="5171760"/>
            <a:ext cx="252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780240" y="5035680"/>
            <a:ext cx="85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005600" y="495252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157880" y="5261040"/>
            <a:ext cx="648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005240" y="562284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70536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629400" y="540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5334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2160" y="5057640"/>
            <a:ext cx="9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46760" y="501984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37160" y="494028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59280" y="50958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90680" y="4930920"/>
            <a:ext cx="447480" cy="155520"/>
          </a:xfrm>
          <a:custGeom>
            <a:avLst/>
            <a:gdLst/>
            <a:ahLst/>
            <a:rect l="l" t="t" r="r" b="b"/>
            <a:pathLst>
              <a:path w="282" h="98">
                <a:moveTo>
                  <a:pt x="0" y="14"/>
                </a:moveTo>
                <a:cubicBezTo>
                  <a:pt x="83" y="17"/>
                  <a:pt x="155" y="0"/>
                  <a:pt x="222" y="44"/>
                </a:cubicBezTo>
                <a:cubicBezTo>
                  <a:pt x="226" y="50"/>
                  <a:pt x="228" y="57"/>
                  <a:pt x="234" y="62"/>
                </a:cubicBezTo>
                <a:cubicBezTo>
                  <a:pt x="244" y="70"/>
                  <a:pt x="282" y="68"/>
                  <a:pt x="252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m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22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327-70D9-4065-A651-217BB7C25A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5836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2D7-CA05-4F74-BF2E-A530D3B5E9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m Dete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ode considers itself jammed when the utility of its communication link falls below a certain thresho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local data (failed channel access, protocol violations, low SN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node considers itself jammed, it periodically sends a JAMMED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y MAC to bypass carrier sense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pefully an un-jammed neighbor receives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47C5-DDDA-4925-A03D-07D0C02F96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pping protoc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der nodes receive a JAMMED messages from its jammed neighbors and calculates normal direction vector to the jammed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nodes are cal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apping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it is not aware of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mpati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roup, it creates a new one with a random ID, waits a while, and broadcasts a BUILD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groups are compatible if the angular difference between their direction vectors is below some thres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742-80FE-418C-9447-415188F6D1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Coales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wo groups are compatible, they are coalesced after a certai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p with the larger group ID domin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mmed nodes in the subordinate group is merged with the dominant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inant group’s BUILD message is augmented with subordinate group 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260-7CCF-48B5-9F73-59362C504F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ILD Mess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 of original sen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 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known jammed n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subordinate group 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regular node, store data lo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mapping node, update the list of known jammed nodes and rebroadcast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EB7-9EB6-42B4-B3B7-5F648E25B26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xt Lab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orm of attribute-based na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s as an address to the ent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distinguished by type  (e.g., fire or ca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ggregate 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ut the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sts application-defin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racking ob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e elements that perform context-specific computation 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tracts a group of nodes that can sense the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CE7-7952-42A3-85AE-553F71C2E4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ager Eavesdropp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 attempts to quickly diffuse knowledge of jammed reg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ward information diffusion: As a BUILD message is relayed around mapping nodes, each node updates list of jammed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k Flooding: When a a BUILD message is rebroadcasts, the single hop upstream mapping node processes 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dates its list of jammed no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es not relay 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E24-496D-4C9A-88D0-F1E0CC0579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dge N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apping node that does not have a neighbor left or right of the direction v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neighbor is not discovered within some time, it periodically sends a PROBE message to detect neighboring mapping node(s) or for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ridge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53341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5715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4952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5562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14600" y="6095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49528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5791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05120" y="6095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46440" y="488628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5740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1460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1828440" y="4952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2209680" y="48765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13372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828800" y="5435640"/>
            <a:ext cx="1396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980720" y="5883120"/>
            <a:ext cx="4140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13080" y="5886360"/>
            <a:ext cx="12384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82720" y="5686560"/>
            <a:ext cx="21276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660760" y="4860720"/>
            <a:ext cx="10476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82720" y="5286240"/>
            <a:ext cx="28908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0208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02080" y="5781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3560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35600" y="5629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35600" y="6162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4508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78400" y="47912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280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16480" y="5857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97160" y="54770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25760" y="61628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97160" y="486720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64200" y="47912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4952880"/>
            <a:ext cx="984240" cy="114012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78400" y="5172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0700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07000" y="5781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260960" y="4863960"/>
            <a:ext cx="18072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648320" y="4866840"/>
            <a:ext cx="49824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24400" y="4902120"/>
            <a:ext cx="2192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24160" y="5019840"/>
            <a:ext cx="0" cy="4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86320" y="6229440"/>
            <a:ext cx="4255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086440" y="5981760"/>
            <a:ext cx="2347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130720" y="6039000"/>
            <a:ext cx="228600" cy="19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429160" y="5562720"/>
            <a:ext cx="3816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489560" y="5314680"/>
            <a:ext cx="252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629240" y="5178600"/>
            <a:ext cx="85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854600" y="509544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006880" y="5403960"/>
            <a:ext cx="648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854240" y="576576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772160" y="5384520"/>
            <a:ext cx="1998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556160" y="5229000"/>
            <a:ext cx="20016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3880" y="5791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2940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29400" y="5791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1629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62920" y="6172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24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867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54864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61722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915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94400" y="49626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43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5791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6292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716880" y="5324400"/>
            <a:ext cx="252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856560" y="5187600"/>
            <a:ext cx="856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7081920" y="5105160"/>
            <a:ext cx="7596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234200" y="5413320"/>
            <a:ext cx="64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7081920" y="5775480"/>
            <a:ext cx="950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5181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781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705720" y="5562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15000" y="54864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48120" y="5210280"/>
            <a:ext cx="9216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2720" y="5172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13120" y="509256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3560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67000" y="5083200"/>
            <a:ext cx="447480" cy="155520"/>
          </a:xfrm>
          <a:custGeom>
            <a:avLst/>
            <a:gdLst/>
            <a:ahLst/>
            <a:rect l="l" t="t" r="r" b="b"/>
            <a:pathLst>
              <a:path w="282" h="98">
                <a:moveTo>
                  <a:pt x="0" y="14"/>
                </a:moveTo>
                <a:cubicBezTo>
                  <a:pt x="83" y="17"/>
                  <a:pt x="155" y="0"/>
                  <a:pt x="222" y="44"/>
                </a:cubicBezTo>
                <a:cubicBezTo>
                  <a:pt x="226" y="50"/>
                  <a:pt x="228" y="57"/>
                  <a:pt x="234" y="62"/>
                </a:cubicBezTo>
                <a:cubicBezTo>
                  <a:pt x="244" y="70"/>
                  <a:pt x="282" y="68"/>
                  <a:pt x="252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487692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m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8520" y="579132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38680" y="6045120"/>
            <a:ext cx="466560" cy="146160"/>
          </a:xfrm>
          <a:custGeom>
            <a:avLst/>
            <a:gdLst/>
            <a:ahLst/>
            <a:rect l="l" t="t" r="r" b="b"/>
            <a:pathLst>
              <a:path w="294" h="92">
                <a:moveTo>
                  <a:pt x="0" y="8"/>
                </a:moveTo>
                <a:cubicBezTo>
                  <a:pt x="43" y="3"/>
                  <a:pt x="78" y="0"/>
                  <a:pt x="120" y="14"/>
                </a:cubicBezTo>
                <a:cubicBezTo>
                  <a:pt x="149" y="43"/>
                  <a:pt x="190" y="49"/>
                  <a:pt x="228" y="62"/>
                </a:cubicBezTo>
                <a:cubicBezTo>
                  <a:pt x="251" y="70"/>
                  <a:pt x="269" y="92"/>
                  <a:pt x="294" y="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62520" y="5867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72200" y="5943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738-C04C-40BE-B18B-EED2E50AF4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dge N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not actually receive any JAMMED 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s two edge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ks areas of low conne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ode becomes a bridge node when it detects a PROBE message from a group it knows ab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ridge node’s coalescing timer is longer to prevent spurious bridging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A626-2D49-4ABC-BC3D-2735015F0F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v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 jammed node becomes un-jammed, it periodically sends an UNJAMMED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 mapping node receives it, it updates the list of jammed nodes and propagates an TEARDOWN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posite of a BUILD me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ll of a mapping node’s jammed neighbors are un-jammed, the mapping node becomes a regular n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751-71F2-4055-ADF7-B73CF908BF9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3184560" cy="25369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2286000" cy="21891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4648320" y="1295280"/>
            <a:ext cx="2895480" cy="22482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3048120" cy="24177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85800" y="3733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113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85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113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685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AA56-650E-43FA-8D87-16E5A29896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102120" cy="21286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2738520" cy="21286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841320" y="4000680"/>
            <a:ext cx="3268800" cy="21301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685800" y="3733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26708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113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685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113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685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4952880" y="3886200"/>
            <a:ext cx="3205440" cy="21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324-0176-4F48-9949-D6BE4BFB6D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Methodolog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MoSim simul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00 x 4000 meter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0 nodes placed at 200m interval gr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o settings inbetween MICA2 and Wave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A &amp; IEEE802.11 MAC lay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med area ranged from 5-144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: 4 neighb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rate: 8 and 12 neighb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FFF4-2D8F-4B27-A17E-1153C85573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ying jammer 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228600" y="2286000"/>
          <a:ext cx="845820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0"/>
                    <a:ext cx="845820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A76-4B29-465B-86D8-63DD3CF701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381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to map region, 12 neighbor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0% of mapping nodes know 1/3 of jammed region in 0.5-3 sec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52280" y="3429000"/>
          <a:ext cx="8305920" cy="23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429000"/>
                    <a:ext cx="830592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9328-6ED9-4991-801A-129C0C0E9A6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 failure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523880" y="2209680"/>
          <a:ext cx="541044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541044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1219320" y="4191120"/>
          <a:ext cx="5638680" cy="21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563868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CDEC-11C0-4ADB-897E-E199DA99DC6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 Defini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 context labels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ntity has one context la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xt label follows the ent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p management, leader mainten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ximate aggregate state is mainta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eshness constraint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itical mass constraint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y application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support for defining context labels, aggregate state variables, and tracking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27DE-A1DD-47FC-A952-92E5AE4D24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 provides a protocol for mapping a jammed re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se group semantics and eager eavesdropp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ck convergence and tolerance to failures when network is moderately conn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834-635C-45FC-BA79-198B8227128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gramm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78800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D3E-2FBF-4B92-9B6F-40031EB55C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xt Label Specif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declare a context label of typ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following must be provid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specifies a pattern in the environment to watch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the state data to be maintained within the context lab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viroTrack provides a library of state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) func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cessible by all tracking obje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tracking objects to associate with the lab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0904-8375-45F3-B61B-3F35905E4D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Mainten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oup of sensors that detect the entity should produce a single context label for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lgorithm must be lightweight and dyna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members of the group must satisfy sense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at most on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jority lead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in th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DAAB-AD7D-45A3-B3F9-AEC539FB26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Maintenance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leader exists, the leader sends heartbeat containing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agat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ps beyond group bound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ls member nodes leader is still pre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ies non-members of the existence of context label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CED-9939-40F3-A365-DFF2B18C5E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. M. Algorithm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member receives a heartbeat, it sets a timer.  If timer expires before receiving another heartbeat, a leadership takeover protocol is trigg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a backup to the standard leadership hand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138-8660-4090-B5C5-93C0C29FB1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ang</cp:lastModifiedBy>
  <dcterms:modified xsi:type="dcterms:W3CDTF">2003-10-16T15:31:23Z</dcterms:modified>
  <cp:revision>137</cp:revision>
  <dc:subject/>
  <dc:title>PowerPoint Presentation</dc:title>
</cp:coreProperties>
</file>